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925-20F8-4D39-BD2E-B587E0AF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C9B-10C4-4D70-B105-B37DA30B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BBA-2180-4D1B-A67F-90689179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F3A-11A8-464F-9EEB-9FB8BB19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8474-560C-48CD-BBE8-A210A3D0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FF53-55B2-4DD9-9136-06EC7C89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0B50-A26F-4036-844E-9ED3F19A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0270-359F-4C1C-AF00-AE472765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A8D8-7952-4A8B-88A6-5D2C69F5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8003-C720-45ED-BF76-E7B13BA7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66B9-AAAD-49F9-A1DB-2A95BA62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8DD-9635-4FDB-888F-C08E3D9C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1321-7044-4C9A-B162-78531AD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8F6E-3CA2-44AC-B364-BDFF0B2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507B-25DF-4647-AAEA-17724E0F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55F0-6C64-4D01-9910-D7BCB330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DB90-AD75-415C-8403-B45464EB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111-2018-4F97-A63F-D71BD4F5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846-4342-4C41-BAEC-88BC0960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1B0-5834-4BD3-AD59-D0C2F02A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587-0378-4E70-8C7D-42E8169C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E7D-D6CF-4653-8A50-D6CABD63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190-3D9A-45C8-8FC8-F14869C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A2B-4223-40B5-8B31-1D4269FD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2CA1-14E2-4156-8476-110B92D2EC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7E0C-2285-4B52-B343-4CC064523D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Tahoma"/>
              </a:rPr>
              <a:t>La scelta dei materiali e la valutazione nel CLIL</a:t>
            </a:r>
            <a:br>
              <a:rPr sz="4400"/>
            </a:br>
            <a:br>
              <a:rPr sz="4400"/>
            </a:br>
            <a:r>
              <a:rPr b="0" i="1" lang="it-IT" sz="3200" spc="-1" strike="noStrike">
                <a:solidFill>
                  <a:srgbClr val="333399"/>
                </a:solidFill>
                <a:latin typeface="Tahoma"/>
              </a:rPr>
              <a:t>a cura di Graziano Serragiotto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40080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tazione nel CL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a tra contenuti e lingu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contemporane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e peso dare alla lingua rispetto al contenuto? 50%, meno, di pi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 tipo di test utilizzare? Quelli linguistici tradizionali o quelli sui contenut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inadegua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cessità di distinguere tr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oscenza linguistic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 quella de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tenut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 vedere se una interferisce con l’alt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1752480"/>
            <a:ext cx="76201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18960" y="320004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caso d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rformance negativ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 deve essere in grado di sapere se si tratta di un problema linguistico o se si tratta di un problema che riguarda il contenuto, o di entramb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iettivo linguistico o contenut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Obiettivi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visi in categorie: problem solving, abilità sui contenuti, comprensione di concetti, uso della lingua,abilità comunicative, comportamento individuale e in gruppo, l’attitud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egliere lo strumento adat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hecklist sulle abilità,schede di lettura e scrittura, schede anedottiche, osservazioni dell’insegnante, autovalutazione da parte degli studenti, portfolios,compiti basati sull’esecuzione, scrivere un resoconto,spiegazioni orali ed intervi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blem solv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studenti mostrano l’abilità a risolvere dei problemi (disegnare diagrammi,dividere, classificare, ec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ilità dei contenu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studenti devono dimostrare abilità legate ai contenuti (bilanciare un’equazione chimica, identificare elementi, ec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nsione di concet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li studenti mostrano di capire dei concetti che riguardano il contenuto e quando e dove applicare questa conoscenza (distinguere tra area e perimetro, rappresentare graficam le inf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o della lingu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studenti vengono testati sulle loro abilità  ad usare la lingua accademica (usare vocabolario tecnico,riconoscere i termini simili, ec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ilità di comunic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studenti devono essere in grado di dare informazioni sul lavoro fatto e sull’argomento svolto (spiegare i passi che vengono intrapresi,giustificare opinioni, ec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atica dei materi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on esistono testi pensati e didattizz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 testi utilizzati dalle scuole straniere usano approcci diversi, punti di vista diversi e programmi differen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oltre quei testi si adattano a studenti che studiano una materia nella propria lingu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rtamento individu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studenti conducono e portano avanti il loro lavoro (portare avanti un task, cercare un argomento, ec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rtamento di grup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studenti  dimostrano delle abilità comunicative e sociali e completano task di gruppo (lavorare in modo collaborativo in gruppo, spiegare agli altri, ec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ggiamento/attitud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tteggiamento/attitudine  degli studenti verso la materia è oggetto di verifica (trovarsi a proprio agio, mostrare confidenza, ec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LIE Content and Language Integrated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tazione integrata di contenuti e lingu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den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egliere lo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rumento idone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ocalizza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stantement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ll’obiet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eriale auten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idattizzar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o di materiale iconografico per la comprensione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necessità di molto t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7245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idattizzare</a:t>
            </a:r>
            <a:br>
              <a:rPr sz="4400"/>
            </a:br>
            <a:r>
              <a:rPr b="0" i="1" lang="it-IT" sz="3200" spc="-1" strike="noStrike">
                <a:solidFill>
                  <a:srgbClr val="ff0000"/>
                </a:solidFill>
                <a:latin typeface="Tahoma"/>
              </a:rPr>
              <a:t>signif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der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rensibile l’inp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ttraverso una serie di attività didatti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zo d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lementi extralinguistic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materiale iconografico, grafici, diagrammi, schemi, ec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tto d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idond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57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scelta dei materi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12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requisiti se necess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iettivi specifi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strumenti utilizz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spetto graf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attività ed esercizi di suppor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rensione gui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riutilizzo di concetti gener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uali approfondim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i lingua utilizza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cazioni nell’uso dei materi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nire un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calet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lla le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re gli elementi astratti co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sempi concre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nire l’input in modo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idondan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videnziare i marcator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 ordine logico, tempo,causa-effetto,…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r lavorare gli student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 coppi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interrompendo le sequenze front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…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a fine di ogni sezione di lezione chiedere agli studenti di fare un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inte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enire sugl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rror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lo quando questi sono tali da impedire la comprens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re uso d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ttenzioni “didattiche”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fatizzare le sezioni importanti, riprendere i punti, 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atica della valut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 cosa valut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e valut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o valut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hé valut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 valut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siasi tipo di valut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chiama a degl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 pensare al tipo d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rument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  utilizz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L: la valutazione è duplice                A- riguarda i contenuti della disciplina  B- riguarda la lingua strani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ragiotto@libero.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9:40:34Z</dcterms:created>
  <dc:creator>Graziano Serragiotto</dc:creator>
  <dc:description/>
  <dc:language>en-US</dc:language>
  <cp:lastModifiedBy>Graz</cp:lastModifiedBy>
  <dcterms:modified xsi:type="dcterms:W3CDTF">2008-11-20T18:02:18Z</dcterms:modified>
  <cp:revision>40</cp:revision>
  <dc:subject/>
  <dc:title>La scelta dei materiali e la valutazione nel CLIL</dc:title>
</cp:coreProperties>
</file>